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A3A6-B1F2-4E85-BE10-DF017D11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DEF-18A7-48FB-8B39-74679E97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297-AD67-4AC3-9923-03B33ECC9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357-8345-4B03-9E02-A4D7DA44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0A56-81C3-4F96-9C77-4380774B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12E-4FE9-480B-9F33-0047D740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9413-E5C0-4F8E-B695-9A1FB31D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DC8-AA90-40F5-B700-4BECD2F8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540-4FD3-4F40-A6B2-130CA7E0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5862-4C00-41EE-ACF0-2489EB84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908-24D9-4FE1-A370-56A639B5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A78-0EA8-4C28-B27B-31C0C71A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5B08-B941-4C96-8453-9ED863131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280" y="549360"/>
            <a:ext cx="8891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9:18:52Z</dcterms:created>
  <dc:creator>SUHAS</dc:creator>
  <dc:description/>
  <dc:language>en-US</dc:language>
  <cp:lastModifiedBy>SUHAS</cp:lastModifiedBy>
  <dcterms:modified xsi:type="dcterms:W3CDTF">2009-09-28T19:19:11Z</dcterms:modified>
  <cp:revision>1</cp:revision>
  <dc:subject/>
  <dc:title>Slide 1</dc:title>
</cp:coreProperties>
</file>